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EA3-FE89-4BB6-AA8F-6D921B65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218-188A-4E42-8509-09A1077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4B1-55D3-409C-BFAE-7CEFBB8E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322-3EE0-47D1-A625-606EA623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866-BF86-4A21-A73D-764136F1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C4F-C331-4206-9A09-07E06DF7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5123-9512-46B7-9C5E-E13DD38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74D2-A17F-4A75-8EC8-87B2C50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5D90-4D8E-4901-810C-DBF264B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A4A-8B13-4439-A3A6-46A6D21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8BD-DFAA-49AA-86BD-C5C5006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62A-1BA5-4C22-9802-26CE4ABF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7E23-409E-4352-A5A7-DB45E95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4358-E582-435E-A941-1C1BE42A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4013-8EFA-4C28-9669-5F847D6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D763-6506-4610-99EA-91C48006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FEAB-3A7B-4DAB-AC6C-5A35B60C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A82-3D39-42DA-A631-4AE0275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513-A45C-4159-B36F-1FDD5115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834-DB72-4157-8015-739EF70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8C6-D789-45FF-9A1C-A4B0E30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338-25BC-4C26-BEFA-5508507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053-3EF0-43E0-92DC-16A404C2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667-6666-4FDB-B892-CAB0A60C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725F-B1A9-4DC1-AB33-C7F1B3F2A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CFB-37EF-4DAA-B8EA-F92DC4690B8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84" descr="wfta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818320"/>
          </a:xfrm>
          <a:prstGeom prst="rect">
            <a:avLst/>
          </a:prstGeom>
          <a:ln w="0">
            <a:noFill/>
          </a:ln>
        </p:spPr>
      </p:pic>
      <p:sp>
        <p:nvSpPr>
          <p:cNvPr id="83" name="矩形 7177"/>
          <p:cNvSpPr txBox="1"/>
          <p:nvPr/>
        </p:nvSpPr>
        <p:spPr>
          <a:xfrm>
            <a:off x="1523880" y="1143000"/>
            <a:ext cx="47246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人生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" name="矩形 7178"/>
          <p:cNvSpPr txBox="1"/>
          <p:nvPr/>
        </p:nvSpPr>
        <p:spPr>
          <a:xfrm>
            <a:off x="4191120" y="487692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勃兰兑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80880"/>
            <a:ext cx="289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16f09"/>
                </a:solidFill>
                <a:latin typeface="Arial"/>
                <a:ea typeface="华文新魏"/>
              </a:rPr>
              <a:t>走近作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勃兰兑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842—192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丹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文学批评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文学史家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出生于犹太血统的商人家庭。在哥本哈根大学攻读法律、哲学、美学，受黑格尔影响较深。大学毕业后，到欧洲各地旅行，在法国结识了泰纳（丹纳）。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187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年回国在哥本哈根大学任教，讲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十九世纪文学主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。这部巨著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卷，即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流亡文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德国的浪漫派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法国的反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英国的自然主义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法国浪漫派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青年德意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693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读准字音，掌握字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瞻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望 （       ）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攫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取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鲑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鱼 （      ）   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滞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（      ）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臆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测 （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赠 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文本框 23556"/>
          <p:cNvSpPr/>
          <p:nvPr/>
        </p:nvSpPr>
        <p:spPr>
          <a:xfrm>
            <a:off x="2133720" y="189864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文本框 23557"/>
          <p:cNvSpPr/>
          <p:nvPr/>
        </p:nvSpPr>
        <p:spPr>
          <a:xfrm>
            <a:off x="6004080" y="1905120"/>
            <a:ext cx="86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文本框 23558"/>
          <p:cNvSpPr/>
          <p:nvPr/>
        </p:nvSpPr>
        <p:spPr>
          <a:xfrm>
            <a:off x="2346480" y="297180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文本框 23559"/>
          <p:cNvSpPr/>
          <p:nvPr/>
        </p:nvSpPr>
        <p:spPr>
          <a:xfrm>
            <a:off x="6156360" y="297180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文本框 23561"/>
          <p:cNvSpPr/>
          <p:nvPr/>
        </p:nvSpPr>
        <p:spPr>
          <a:xfrm>
            <a:off x="2422440" y="396252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y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文本框 23562"/>
          <p:cNvSpPr/>
          <p:nvPr/>
        </p:nvSpPr>
        <p:spPr>
          <a:xfrm>
            <a:off x="6232680" y="396252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1680" y="38088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释词语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停滞不前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乐此不疲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粉身碎骨：               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赏心悦目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微不足道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瞻望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文本框 24579"/>
          <p:cNvSpPr/>
          <p:nvPr/>
        </p:nvSpPr>
        <p:spPr>
          <a:xfrm>
            <a:off x="3048120" y="99072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受到阻碍，不能顺利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进行和发展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文本框 24581"/>
          <p:cNvSpPr/>
          <p:nvPr/>
        </p:nvSpPr>
        <p:spPr>
          <a:xfrm>
            <a:off x="2590920" y="2438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喜欢做某事而不知疲倦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文本框 24582"/>
          <p:cNvSpPr/>
          <p:nvPr/>
        </p:nvSpPr>
        <p:spPr>
          <a:xfrm>
            <a:off x="25146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身体粉碎，指死。形容为了达到目的而不惜牺牲生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文本框 24583"/>
          <p:cNvSpPr/>
          <p:nvPr/>
        </p:nvSpPr>
        <p:spPr>
          <a:xfrm>
            <a:off x="2727360" y="4038480"/>
            <a:ext cx="61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美好的情景使人心情愉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文本框 24584"/>
          <p:cNvSpPr/>
          <p:nvPr/>
        </p:nvSpPr>
        <p:spPr>
          <a:xfrm>
            <a:off x="2590920" y="472428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物细小而轻微，不足挂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文本框 24585"/>
          <p:cNvSpPr/>
          <p:nvPr/>
        </p:nvSpPr>
        <p:spPr>
          <a:xfrm>
            <a:off x="1828800" y="54864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往远处看或往高处看或往将来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4340"/>
          <p:cNvSpPr/>
          <p:nvPr/>
        </p:nvSpPr>
        <p:spPr>
          <a:xfrm>
            <a:off x="376200" y="251460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想一想文中都从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哪些方面为喻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人生，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几个场面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？交流初读本文的 感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文本框 14341"/>
          <p:cNvSpPr/>
          <p:nvPr/>
        </p:nvSpPr>
        <p:spPr>
          <a:xfrm>
            <a:off x="990720" y="10666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仿宋_GB2312"/>
              </a:rPr>
              <a:t>朗读课文、理清思路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3075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全文按所描写的场面自然地分为四个部分：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文本框 3076"/>
          <p:cNvSpPr/>
          <p:nvPr/>
        </p:nvSpPr>
        <p:spPr>
          <a:xfrm>
            <a:off x="39528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一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人类攀登高塔的情景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说明人类生命表现形式尽管千万别，但其中又有共同性和必然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文本框 3081"/>
          <p:cNvSpPr/>
          <p:nvPr/>
        </p:nvSpPr>
        <p:spPr>
          <a:xfrm>
            <a:off x="231840" y="5950080"/>
            <a:ext cx="866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文本框 3082"/>
          <p:cNvSpPr/>
          <p:nvPr/>
        </p:nvSpPr>
        <p:spPr>
          <a:xfrm>
            <a:off x="304920" y="2492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二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人深入地挖掘、探寻地下坑道的情景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表现他们不屈不挠、顽强奋斗的精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文本框 3083"/>
          <p:cNvSpPr/>
          <p:nvPr/>
        </p:nvSpPr>
        <p:spPr>
          <a:xfrm>
            <a:off x="447840" y="393372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三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人在广阔的领域开拓进取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他们攫取更多的土地，征服更多的人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文本框 3084"/>
          <p:cNvSpPr/>
          <p:nvPr/>
        </p:nvSpPr>
        <p:spPr>
          <a:xfrm>
            <a:off x="324000" y="49417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四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在一种工场中劳动的人们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表现他们的刻苦勤奋、吃苦耐劳的精神品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5123"/>
          <p:cNvSpPr/>
          <p:nvPr/>
        </p:nvSpPr>
        <p:spPr>
          <a:xfrm>
            <a:off x="324000" y="126828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．作者把人生比作攀高塔，你认为这个比喻是否恰切？为什么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？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文本框 5124"/>
          <p:cNvSpPr/>
          <p:nvPr/>
        </p:nvSpPr>
        <p:spPr>
          <a:xfrm>
            <a:off x="152280" y="2700360"/>
            <a:ext cx="8839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这个比喻较为恰切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把人生比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攀登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是一般性的比喻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把人生比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攀登高塔</a:t>
            </a:r>
            <a:r>
              <a:rPr b="1" lang="en-US" sz="4400" spc="-1" strike="noStrike">
                <a:solidFill>
                  <a:srgbClr val="180674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设喻奇特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)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，含蓄地阐明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人生就是一个不断进取、不断登高的过程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，同时也形象地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表现出人生道路的艰难、漫长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文本框 5132"/>
          <p:cNvSpPr/>
          <p:nvPr/>
        </p:nvSpPr>
        <p:spPr>
          <a:xfrm>
            <a:off x="457200" y="380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147"/>
          <p:cNvSpPr/>
          <p:nvPr/>
        </p:nvSpPr>
        <p:spPr>
          <a:xfrm>
            <a:off x="592200" y="22536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文本框 6148"/>
          <p:cNvSpPr/>
          <p:nvPr/>
        </p:nvSpPr>
        <p:spPr>
          <a:xfrm>
            <a:off x="519120" y="981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“越往上走，攀登越困难了，而且目光已不大能区别事物，它们看起来似乎都是相同的。”为什么说都是相同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文本框 6150"/>
          <p:cNvSpPr/>
          <p:nvPr/>
        </p:nvSpPr>
        <p:spPr>
          <a:xfrm>
            <a:off x="539640" y="4038480"/>
            <a:ext cx="829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往上走”意味着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年龄的增长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越老经历的事越多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，所以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见到各种事物都“似曾相识”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842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“从精神上来说，他们是停留</a:t>
            </a:r>
            <a:br>
              <a:rPr sz="4000"/>
            </a:b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同一个地方。”这话是什么意思？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1680" y="2666880"/>
            <a:ext cx="854064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人们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年事的增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，自身在许多方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会有很多改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，但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性格、志趣、品质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很难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很少改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的。这里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精神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”应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性格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之类的东西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9459"/>
          <p:cNvSpPr/>
          <p:nvPr/>
        </p:nvSpPr>
        <p:spPr>
          <a:xfrm>
            <a:off x="519120" y="1143000"/>
            <a:ext cx="81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挖掘坑道、征服广阔领域、在工场劳作的三种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各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什么样的精神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？是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什么样的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？你可以从实际生活中为这三种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补充几个例子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吗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6387"/>
          <p:cNvSpPr/>
          <p:nvPr/>
        </p:nvSpPr>
        <p:spPr>
          <a:xfrm>
            <a:off x="147600" y="836640"/>
            <a:ext cx="899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深入地挖掘、探寻地下坑道的人具有怎样的性格特点？是指什么样的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文本框 16388"/>
          <p:cNvSpPr/>
          <p:nvPr/>
        </p:nvSpPr>
        <p:spPr>
          <a:xfrm>
            <a:off x="1828800" y="2492280"/>
            <a:ext cx="67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不屈不挠、顽强奋斗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为了事业而忘却生命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文本框 16389"/>
          <p:cNvSpPr/>
          <p:nvPr/>
        </p:nvSpPr>
        <p:spPr>
          <a:xfrm>
            <a:off x="539640" y="4299120"/>
            <a:ext cx="849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从事研究工作，进行较为抽象的脑力劳动，也就是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阿基米德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那样的科学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4340"/>
          <p:cNvSpPr/>
          <p:nvPr/>
        </p:nvSpPr>
        <p:spPr>
          <a:xfrm>
            <a:off x="376200" y="251460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想一想文中都从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哪些方面为喻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人生，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几个场面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？交流初读本文的 感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文本框 14341"/>
          <p:cNvSpPr/>
          <p:nvPr/>
        </p:nvSpPr>
        <p:spPr>
          <a:xfrm>
            <a:off x="990720" y="10666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仿宋_GB2312"/>
              </a:rPr>
              <a:t>朗读课文、理清思路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1680" y="761760"/>
            <a:ext cx="419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761760"/>
            <a:ext cx="419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Arial"/>
              </a:rPr>
              <a:t>公元前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212</a:t>
            </a:r>
            <a:r>
              <a:rPr b="1" lang="zh-CN" sz="4000" spc="-1" strike="noStrike">
                <a:solidFill>
                  <a:srgbClr val="000080"/>
                </a:solidFill>
                <a:latin typeface="Arial"/>
              </a:rPr>
              <a:t>年，古罗马军队攻陷叙拉古，正在聚精会神研究科学问题的阿基米德，不幸被蛮横的罗马士兵杀死，终年七十五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图片 50180" descr="archimedes"/>
          <p:cNvPicPr/>
          <p:nvPr/>
        </p:nvPicPr>
        <p:blipFill>
          <a:blip r:embed="rId1"/>
          <a:stretch/>
        </p:blipFill>
        <p:spPr>
          <a:xfrm>
            <a:off x="304920" y="533520"/>
            <a:ext cx="426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2291"/>
          <p:cNvSpPr/>
          <p:nvPr/>
        </p:nvSpPr>
        <p:spPr>
          <a:xfrm>
            <a:off x="468360" y="549360"/>
            <a:ext cx="86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广阔的领域开拓进取的人具有怎样的性格特点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指什么样的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文本框 12292"/>
          <p:cNvSpPr/>
          <p:nvPr/>
        </p:nvSpPr>
        <p:spPr>
          <a:xfrm>
            <a:off x="755640" y="18446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一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贪欲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占有欲极强，渴望征服，           喜欢掌握权力，控制人和事物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二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坚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精力充沛，头脑活跃，爱冒险，热爱生活，勇敢地面对生活的挑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文本框 12295"/>
          <p:cNvSpPr/>
          <p:nvPr/>
        </p:nvSpPr>
        <p:spPr>
          <a:xfrm>
            <a:off x="685800" y="4952880"/>
            <a:ext cx="811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军事家、政治家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，像恺撒大帝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秦始皇、汉武帝等。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05320" y="153720"/>
            <a:ext cx="57434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公元前一世纪中叶的罗马，暴君沙拉大肆搜捕他在政治上的敌人，年轻的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因为受到牵连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被捕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沙拉命令手下将军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庞培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处死恺撒，但庞培被恺撒的英勇气概所感动，悄悄让他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连夜出逃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沙拉死后他回到罗马，他的女儿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朱莉娅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为帮助父亲在政治上发展，委身于庞培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终于登上权力的宝座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与庞培共同统治罗马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埃及女王以身相许，恺撒由此得以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将埃及疆土并入罗马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但最终，在元老院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死于布鲁托斯等人的匕首下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此后罗马正式进入帝制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年轻时的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不畏强权，征战无数，终于顺利征服罗马，称霸大帝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图片 56327" descr="DVD05546恺撒大帝"/>
          <p:cNvPicPr/>
          <p:nvPr/>
        </p:nvPicPr>
        <p:blipFill>
          <a:blip r:embed="rId1"/>
          <a:stretch/>
        </p:blipFill>
        <p:spPr>
          <a:xfrm>
            <a:off x="0" y="33336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56324" descr="NewsMedia_236862恺撒"/>
          <p:cNvPicPr/>
          <p:nvPr/>
        </p:nvPicPr>
        <p:blipFill>
          <a:blip r:embed="rId2"/>
          <a:stretch/>
        </p:blipFill>
        <p:spPr>
          <a:xfrm>
            <a:off x="0" y="35053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6328"/>
          <p:cNvSpPr/>
          <p:nvPr/>
        </p:nvSpPr>
        <p:spPr>
          <a:xfrm>
            <a:off x="0" y="35053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军事家、政治家恺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文本占位符 53252" descr=""/>
          <p:cNvPicPr/>
          <p:nvPr/>
        </p:nvPicPr>
        <p:blipFill>
          <a:blip r:embed="rId1"/>
          <a:stretch/>
        </p:blipFill>
        <p:spPr>
          <a:xfrm>
            <a:off x="228600" y="409680"/>
            <a:ext cx="6629400" cy="5838840"/>
          </a:xfrm>
          <a:prstGeom prst="rect">
            <a:avLst/>
          </a:prstGeom>
          <a:ln w="0">
            <a:noFill/>
          </a:ln>
        </p:spPr>
      </p:pic>
      <p:pic>
        <p:nvPicPr>
          <p:cNvPr id="155" name="对象 53253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5334120" cy="579132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53254"/>
          <p:cNvSpPr/>
          <p:nvPr/>
        </p:nvSpPr>
        <p:spPr>
          <a:xfrm>
            <a:off x="3184560" y="4495680"/>
            <a:ext cx="23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灭六国，统一天下，建立了中国历史上第一个统一的多民族的中央集权的国家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685440"/>
            <a:ext cx="41940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00640" y="533160"/>
            <a:ext cx="444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汉武帝名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刘彻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，是汉朝开国皇帝汉高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刘邦的曾孙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。公元前</a:t>
            </a: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141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年在他父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汉景帝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死后，便由他做了皇帝，那时他还只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十六岁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。从那一年起到公元前</a:t>
            </a: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8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７年他死时止，他总共做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五十四年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皇帝，占了整个西汉王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四分之一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的时间。</a:t>
            </a:r>
            <a:br>
              <a:rPr sz="3200"/>
            </a:br>
            <a:r>
              <a:rPr b="1" lang="zh-CN" sz="3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图片 54277" descr="200502030021_276440汉武帝"/>
          <p:cNvPicPr/>
          <p:nvPr/>
        </p:nvPicPr>
        <p:blipFill>
          <a:blip r:embed="rId1"/>
          <a:stretch/>
        </p:blipFill>
        <p:spPr>
          <a:xfrm>
            <a:off x="304920" y="457200"/>
            <a:ext cx="4267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7411"/>
          <p:cNvSpPr/>
          <p:nvPr/>
        </p:nvSpPr>
        <p:spPr>
          <a:xfrm>
            <a:off x="663480" y="608040"/>
            <a:ext cx="815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在一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工场中劳动的人们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具有怎样的性格特点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是指什么样的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文本框 17412"/>
          <p:cNvSpPr/>
          <p:nvPr/>
        </p:nvSpPr>
        <p:spPr>
          <a:xfrm>
            <a:off x="914400" y="2286000"/>
            <a:ext cx="66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刻苦勤奋、吃苦耐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文本框 17414"/>
          <p:cNvSpPr/>
          <p:nvPr/>
        </p:nvSpPr>
        <p:spPr>
          <a:xfrm>
            <a:off x="685800" y="3733920"/>
            <a:ext cx="77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技术工人、工艺师、设计师、发明家，如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爱迪生、张衡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毕升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等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1680" y="609120"/>
            <a:ext cx="8461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爱迪生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是位举世闻名的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美国电学家和发明家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，他除了在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留声机、电灯、电 话、电报、电影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等方面的发明和贡献以外，在矿业、建筑业、化工等领域也有不少著名的创造和真知灼见。爱迪生一生共有约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两千项创造发明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，为人类的文明和进步作出了巨大的贡献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图片 57352" descr="图片1"/>
          <p:cNvPicPr/>
          <p:nvPr/>
        </p:nvPicPr>
        <p:blipFill>
          <a:blip r:embed="rId1"/>
          <a:stretch/>
        </p:blipFill>
        <p:spPr>
          <a:xfrm>
            <a:off x="0" y="4048200"/>
            <a:ext cx="914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56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张衡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78—13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字平子，南阳西鄂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今河南省南阳市石桥镇夏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曾任尚书和河间相等职。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我国东汉时期伟大的科学家、文学家、发明家和政治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在地震学方面，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发明创造了“地动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3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是世界上第一架测定地震及方位的仪器，比欧洲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7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多年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cc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图片 58372" descr="zhang张衡"/>
          <p:cNvPicPr/>
          <p:nvPr/>
        </p:nvPicPr>
        <p:blipFill>
          <a:blip r:embed="rId1"/>
          <a:stretch/>
        </p:blipFill>
        <p:spPr>
          <a:xfrm>
            <a:off x="5486400" y="762120"/>
            <a:ext cx="3657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733560" y="609120"/>
            <a:ext cx="51814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毕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?-1051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明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字印刷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是中国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世界文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一大贡献。毕升生活在雕版印刷全盛时期的宋朝。他在总结前人和当时雕版印刷经验的基础上，经过反复试验，发明了活字印刷术。这种方法很快传遍世界，使印刷技术发生了巨大变革。</a:t>
            </a:r>
            <a:br>
              <a:rPr sz="3200"/>
            </a:b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图片 59396" descr="rw-bsx1毕升"/>
          <p:cNvPicPr/>
          <p:nvPr/>
        </p:nvPicPr>
        <p:blipFill>
          <a:blip r:embed="rId1"/>
          <a:stretch/>
        </p:blipFill>
        <p:spPr>
          <a:xfrm>
            <a:off x="304920" y="99072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63489"/>
          <p:cNvSpPr/>
          <p:nvPr/>
        </p:nvSpPr>
        <p:spPr>
          <a:xfrm>
            <a:off x="395280" y="189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本文运用比喻的手法，以此代表人生各个方面的种种人：首先，作者把人生比作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揭示人类追求生命的表现形式千变万化，又有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相似性、一致性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的特点。其次，用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比喻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从事研究工作，进行较为抽象脑力劳动的人们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。再次，用征服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的人比喻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军事家、政治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。最后，作者用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在工场劳动的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比喻</a:t>
            </a:r>
            <a:r>
              <a:rPr b="1" lang="zh-CN" sz="18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作者运用比喻含蓄、贴切地表达自己对人生的看法，新颖、奇特、形象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文本框 63490"/>
          <p:cNvSpPr/>
          <p:nvPr/>
        </p:nvSpPr>
        <p:spPr>
          <a:xfrm>
            <a:off x="1332000" y="126828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攀登高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文本框 63491"/>
          <p:cNvSpPr/>
          <p:nvPr/>
        </p:nvSpPr>
        <p:spPr>
          <a:xfrm>
            <a:off x="226692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挖掘坑道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文本框 63492"/>
          <p:cNvSpPr/>
          <p:nvPr/>
        </p:nvSpPr>
        <p:spPr>
          <a:xfrm>
            <a:off x="1763640" y="3502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广阔领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文本框 63493"/>
          <p:cNvSpPr/>
          <p:nvPr/>
        </p:nvSpPr>
        <p:spPr>
          <a:xfrm>
            <a:off x="2843280" y="4292640"/>
            <a:ext cx="63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技术工人、工艺师、设计师、发明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495320" y="685440"/>
            <a:ext cx="40388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庄子说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:“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人生天地之间，若白驹之过隙，忽然而已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图片 29702" descr="37庄子"/>
          <p:cNvPicPr/>
          <p:nvPr/>
        </p:nvPicPr>
        <p:blipFill>
          <a:blip r:embed="rId1"/>
          <a:stretch/>
        </p:blipFill>
        <p:spPr>
          <a:xfrm>
            <a:off x="228600" y="60948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13315"/>
          <p:cNvSpPr/>
          <p:nvPr/>
        </p:nvSpPr>
        <p:spPr>
          <a:xfrm>
            <a:off x="735120" y="44136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作者描述这些人群，肯定或赞扬了什么精神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文本框 13316"/>
          <p:cNvSpPr/>
          <p:nvPr/>
        </p:nvSpPr>
        <p:spPr>
          <a:xfrm>
            <a:off x="663480" y="2205000"/>
            <a:ext cx="808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想借此来肯定或赞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时光的珍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对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生命的热爱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赞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勤于劳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辛苦探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勇敢倔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30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作者虚写四种场景，三大人 群，便表达了作者对人生的深刻理解，这叫什么写法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按说还可以描写更多的人的生活场景。作者只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举例性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作简单概述，突出这几种人的特点和优秀品质，表达了他的人生志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这是</a:t>
            </a: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以小见大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的写法。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2051"/>
          <p:cNvSpPr/>
          <p:nvPr/>
        </p:nvSpPr>
        <p:spPr>
          <a:xfrm>
            <a:off x="1023840" y="549360"/>
            <a:ext cx="63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章主旨</a:t>
            </a: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文本框 2052"/>
          <p:cNvSpPr/>
          <p:nvPr/>
        </p:nvSpPr>
        <p:spPr>
          <a:xfrm>
            <a:off x="539640" y="15238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课文以“高塔”“地洞”“广阔领域”和“工场”为喻，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同的角度、视野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，描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人的生命旅程的不同境况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，表达了作者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人的生命本质、对人类社会生活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的深刻理解，表达了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生命的珍爱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的情感，以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让一生过得更有意义的信念和志向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26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拓展延伸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066680"/>
            <a:ext cx="8385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人生是什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?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这是一个古老而永恒的话题。曹操赋诗</a:t>
            </a:r>
            <a:r>
              <a:rPr b="1" lang="zh-CN" sz="40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对酒当歌，人生几何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?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譬如朝露，去日苦多。</a:t>
            </a:r>
            <a:r>
              <a:rPr b="1" lang="zh-CN" sz="40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以发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人生苦短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的慨叹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学习了这篇文章，你把人生比作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请你也试写几句有深意的文字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矩形 25605"/>
          <p:cNvSpPr txBox="1"/>
          <p:nvPr/>
        </p:nvSpPr>
        <p:spPr>
          <a:xfrm>
            <a:off x="1219320" y="5181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看看谁写得最好！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人生就像树叶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样经历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新绿、翠绿、深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直到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枯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然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叶落归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人年轻的时候，就好像新芽后的嫩绿树叶，不断地吸收着外界的阳光、水分和空气，使劲往上攒动；慢慢地，从青年步入壮年，再到中年，浑身的绿开始变得厚重了，那是一种别样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丰韵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一种不露而艳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成熟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人的一生只需要将属于自己的那片绿叶尽量保持得圆润和丰盈，而不必在乎这片叶子到底是挂在树尖还是树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矩形 31747"/>
          <p:cNvSpPr txBox="1"/>
          <p:nvPr/>
        </p:nvSpPr>
        <p:spPr>
          <a:xfrm>
            <a:off x="533520" y="30492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有人说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人生就像树叶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远古的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它是一部扑朔迷离的神话。女娲补天，精卫填海；刀耕火种，茹毛饮血皆成沧海桑田，神话注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政治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它是一局下不完的棋。雄关危塞，龙楼凤阁；阿房宫冷，铜雀名荒，古今多少事，都在棋盘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学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来说，它是万宏不息的鸿篇巨制。楚辞汉赋，关曲曹梦；李杜诗歌，韩柳文章，皆成绝版经典，千古传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矩形 45059"/>
          <p:cNvSpPr txBox="1"/>
          <p:nvPr/>
        </p:nvSpPr>
        <p:spPr>
          <a:xfrm>
            <a:off x="685800" y="3049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还有人认为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人生是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农民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来说，它是一方凝重的田园。暮云春树，沧桑几度；春耕夏耘，汗滴干土，赢得稻花飘香，粮粟盈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学子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它是一曲寒窗数载，苦读成名的歌。悬梁刺股，映雪囊萤；凿壁偷光，程门立雪，换来金榜题名，振国兴邦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442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课堂小结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冰心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谈生命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文中说过，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不是每一道江流都能入海，不流动的便成为死湖；不是每一粒种子都能成树，不生长的便成了空壳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活着，是生命的一种形式，珍惜才是对生命最有价值的修饰，珍惜自己，你就能挟卷滚滚沙石，快乐勇敢地奔流，投进大海温馨博大的怀抱；珍惜自己，你就会从地下破土而出，长成一棵小树，听到黄莺的歌唱。人生是寂寞的，犹如寂然无声的荒野；人生是永恒的，犹如奔流不息的逝水；人生也是辉煌的，如果我们轰轰烈烈地走过一生。让我们走好每一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952880" y="685440"/>
            <a:ext cx="38894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屈原说：“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路漫漫其修远兮，吾将上下而求索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图片 52228" descr="xquyuanx屈原"/>
          <p:cNvPicPr/>
          <p:nvPr/>
        </p:nvPicPr>
        <p:blipFill>
          <a:blip r:embed="rId1"/>
          <a:stretch/>
        </p:blipFill>
        <p:spPr>
          <a:xfrm>
            <a:off x="380880" y="45720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4036" descr="041104歌"/>
          <p:cNvPicPr/>
          <p:nvPr/>
        </p:nvPicPr>
        <p:blipFill>
          <a:blip r:embed="rId1"/>
          <a:stretch/>
        </p:blipFill>
        <p:spPr>
          <a:xfrm>
            <a:off x="22860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191120" y="9140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歌德说：“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只有经历过人生的辛苦才知道人生的真价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文本框 44035"/>
          <p:cNvSpPr/>
          <p:nvPr/>
        </p:nvSpPr>
        <p:spPr>
          <a:xfrm>
            <a:off x="6004080" y="116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1240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巴金说：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常将生命比之于流水。这股水流从生命的源头流下来，永远在动荡，在创造它的道路，通过乱山碎石，以达到那惟一的生命之海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图片 43013" descr="xinsrc_5021101250956233207364巴金"/>
          <p:cNvPicPr/>
          <p:nvPr/>
        </p:nvPicPr>
        <p:blipFill>
          <a:blip r:embed="rId1"/>
          <a:stretch/>
        </p:blipFill>
        <p:spPr>
          <a:xfrm>
            <a:off x="0" y="609480"/>
            <a:ext cx="868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5715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奥斯特洛夫斯基说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dc5900"/>
                </a:solidFill>
                <a:latin typeface="宋体"/>
              </a:rPr>
              <a:t>人的一生应当这样度过，当他回忆往事 的时候，不因虚度年华而悔恨，也不因碌碌无为而羞耻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。”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4419360"/>
            <a:ext cx="838512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图片 28676" descr="F2004033008225600000"/>
          <p:cNvPicPr/>
          <p:nvPr/>
        </p:nvPicPr>
        <p:blipFill>
          <a:blip r:embed="rId1"/>
          <a:stretch/>
        </p:blipFill>
        <p:spPr>
          <a:xfrm>
            <a:off x="304920" y="533520"/>
            <a:ext cx="2666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8677"/>
          <p:cNvSpPr/>
          <p:nvPr/>
        </p:nvSpPr>
        <p:spPr>
          <a:xfrm>
            <a:off x="22860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钢铁是怎样炼成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191120" y="609120"/>
            <a:ext cx="46512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萨拉</a:t>
            </a: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意大利</a:t>
            </a:r>
            <a:r>
              <a:rPr b="1" lang="en-US" sz="5400" spc="-1" strike="noStrike">
                <a:solidFill>
                  <a:srgbClr val="5c5a5a"/>
                </a:solidFill>
                <a:latin typeface="宋体"/>
              </a:rPr>
              <a:t>AC</a:t>
            </a:r>
            <a:r>
              <a:rPr b="1" lang="zh-CN" sz="5400" spc="-1" strike="noStrike">
                <a:solidFill>
                  <a:srgbClr val="5c5a5a"/>
                </a:solidFill>
                <a:latin typeface="宋体"/>
              </a:rPr>
              <a:t>米兰队担任主力右后卫 </a:t>
            </a: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说：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5400" spc="-1" strike="noStrike">
                <a:solidFill>
                  <a:srgbClr val="dc5900"/>
                </a:solidFill>
                <a:latin typeface="宋体"/>
              </a:rPr>
              <a:t>生命是一条美丽而曲折的幽径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图片 51204" descr="1_6-111-2437-2535_2003082511021萨"/>
          <p:cNvPicPr/>
          <p:nvPr/>
        </p:nvPicPr>
        <p:blipFill>
          <a:blip r:embed="rId1"/>
          <a:stretch/>
        </p:blipFill>
        <p:spPr>
          <a:xfrm>
            <a:off x="380880" y="685800"/>
            <a:ext cx="3581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7655" descr="wfta"/>
          <p:cNvPicPr/>
          <p:nvPr/>
        </p:nvPicPr>
        <p:blipFill>
          <a:blip r:embed="rId1"/>
          <a:stretch/>
        </p:blipFill>
        <p:spPr>
          <a:xfrm>
            <a:off x="304920" y="457200"/>
            <a:ext cx="365760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27649"/>
          <p:cNvSpPr/>
          <p:nvPr/>
        </p:nvSpPr>
        <p:spPr>
          <a:xfrm>
            <a:off x="1012680" y="944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矩形 27652"/>
          <p:cNvSpPr txBox="1"/>
          <p:nvPr/>
        </p:nvSpPr>
        <p:spPr>
          <a:xfrm>
            <a:off x="5257800" y="480060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勃兰兑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文本框 27653"/>
          <p:cNvSpPr/>
          <p:nvPr/>
        </p:nvSpPr>
        <p:spPr>
          <a:xfrm>
            <a:off x="569916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矩形 27654"/>
          <p:cNvSpPr txBox="1"/>
          <p:nvPr/>
        </p:nvSpPr>
        <p:spPr>
          <a:xfrm>
            <a:off x="2362320" y="1600200"/>
            <a:ext cx="4267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0:35:24Z</dcterms:created>
  <dc:creator>abc</dc:creator>
  <dc:description/>
  <dc:language>en-US</dc:language>
  <cp:lastModifiedBy>Administrator</cp:lastModifiedBy>
  <dcterms:modified xsi:type="dcterms:W3CDTF">2017-01-10T04:22:49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